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13.jpeg" ContentType="image/jpeg"/>
  <Override PartName="/ppt/media/image2.pct" ContentType="image/x-pict"/>
  <Override PartName="/ppt/media/image3.png" ContentType="image/png"/>
  <Override PartName="/ppt/media/image4.pct" ContentType="image/x-pict"/>
  <Override PartName="/ppt/media/image5.pct" ContentType="image/x-pict"/>
  <Override PartName="/ppt/media/image6.jpeg" ContentType="image/jpeg"/>
  <Override PartName="/ppt/media/image10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jpeg" ContentType="image/jpeg"/>
  <Override PartName="/ppt/media/image11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08D6-4ADA-4584-ADAC-138853EAB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Asaro Mud Men, New Guinea, 19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inum/palladium print, 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uedras, Morocco, 19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inum/palladium print, 19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Y Socia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man Cap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rait of Pablo Picas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zco Children, 19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inum/palladium print, 19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82F9-63B3-493D-8C31-9F7542E5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9CE1-FF6A-4ACF-A3C4-0F040A5C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9EFD-6E85-4046-BC43-A45DA32E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BDA2-2A97-48EB-B6ED-24A86977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EE50-2482-4107-AE6F-191541F7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15CF-E7E5-4103-9F63-F33E84D2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0918-CF91-4E0D-A967-5C84D609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688A-3952-4866-8D9C-24D7F0EF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9D94-600C-46EB-99DD-39CDF915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022D-0EFB-4546-94D1-F019DA18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D7B1-45D4-4564-8F4F-BE9178CC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D0F0-B7F1-4ADD-805E-08F203D2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BBCB-C77C-4D18-8C13-AB9026DEF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40040" y="609480"/>
            <a:ext cx="5262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19160" y="609480"/>
            <a:ext cx="530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49360" y="609480"/>
            <a:ext cx="4443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39960" y="671400"/>
            <a:ext cx="546264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66840" y="152280"/>
            <a:ext cx="47005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1303200"/>
            <a:ext cx="8381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51120" y="609480"/>
            <a:ext cx="5441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301920" y="838080"/>
            <a:ext cx="327024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17640" y="609480"/>
            <a:ext cx="3706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35280" y="609480"/>
            <a:ext cx="3673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30400" y="939960"/>
            <a:ext cx="5081760" cy="49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33400" y="609480"/>
            <a:ext cx="5675400" cy="5486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61722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9:59:30Z</dcterms:created>
  <dc:creator>Ruth Dusseault</dc:creator>
  <dc:description/>
  <dc:language>en-US</dc:language>
  <cp:lastModifiedBy>Ruth Dusseault</cp:lastModifiedBy>
  <dcterms:modified xsi:type="dcterms:W3CDTF">2007-01-28T10:41:35Z</dcterms:modified>
  <cp:revision>16</cp:revision>
  <dc:subject/>
  <dc:title>PowerPoint Presentation</dc:title>
</cp:coreProperties>
</file>